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CC3-F879-4347-988F-C54C541C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153-2852-46B0-973B-8A9E0A0B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373E7-9D1A-4045-8D5A-C338C101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A986E-972E-4295-AC39-66A8DB35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15182-B50F-4368-9F98-E4E5C341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15C21-2C10-40DA-8E23-F814032B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E7372-0E05-4A97-8EE2-8F71F9BF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5E378-0C9D-4DE9-ABB7-22ED05BE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6877C-AC4E-45DF-B222-CF1565FD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AD906-5B2F-4737-AAB7-297EAB47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738F0-B9A2-4B6B-B17B-027E68A4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7DC73-61CA-4AA4-87BA-F441BD57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E3F-D1EA-407A-BF7E-0089572B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72F5E-4DD8-4F43-910C-7211B805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448CE-3A57-41E0-B057-449857C0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D547B-3B62-473F-B60D-9221E913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55226-534E-470A-9D3C-04DAB15C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588D8-9287-4893-9338-E41EB8B7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4D49D-E178-4C5F-B179-2482A72F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5D932-119F-4617-8E7F-907FE30F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1FABD-0F0A-4732-BF66-18AB88AC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42E4B-98E4-4F5D-8E5B-8EB63BF6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F2871-5E1B-42D6-8CFC-78EE071B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3F7-9759-4C9C-BE1E-CBD4503A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79BB9-6446-4541-AB3D-7E0AD7B8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32A1-AD4B-4684-BAB2-7141FCEA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237B-6D3B-4FA0-AC53-D832BC94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8FEC-361F-41A7-A2A2-1859C479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0A7F-96E3-4D60-BAC0-DB22171A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F960-7C44-4B20-8DB3-56CA10B2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86AB-E3E7-463A-9A17-39E56B4A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5C52-BCA4-4904-BDF9-9F643946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E52-839C-481D-9FD9-81F3E287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C31F-4CE8-44B6-AAD5-0CD491EB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6D91-BEB5-4B49-8141-799D0091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2D2A-6B79-4987-A960-84723D39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CBDC-B9A6-415A-8415-72EA7F10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78F4-DE9D-44A1-8660-E1A0CAE0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8FBE-95B2-4CA8-89BE-3F7CB65D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79B34-07FE-47A3-AAA5-87695F47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79CB1-9BA9-4C30-864A-AF45D350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BF77B-31F2-4B11-ADA8-5528D425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E441F-1AD0-40B3-A24D-343AC2FC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F8B-6078-4DDD-A0B3-043DF5BF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83AA7-ABA6-4A45-8728-EF862657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F3B73-48DB-4529-9090-EEE43550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21DA-B11C-4B28-8BB7-B69C14AB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2115C-5D75-4809-87A0-F4541215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6D11A-5BC4-463E-948E-6ADAD056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E566C-16F2-4A7C-85F7-ACF1EC7C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91667-E87C-47C8-8E08-06A56D45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9C08F-00AF-4EBE-9EBC-BE6876B4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80EF7-500C-4CCF-8EED-220F3838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D75CD-B060-4A97-80E8-858938BB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0D0-7A71-4E08-881C-7AE68487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33822-8DE3-4A6C-8F09-C0A9509C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5250A-A334-4BFF-BD3A-1AF60F8C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A9930-F75B-42D5-BEEE-0C689991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1200F-19D8-45F7-A9DC-A1CA46EF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32B76-7EBD-4AE1-9A45-FC592072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F1410-E30B-4629-957D-E43EE426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6137E-8758-45A2-B7C2-1893BB8C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34398-8AA4-4A06-8379-C5F9F37B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C4BE7-E150-41E7-B3D1-FB8D0EA9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E9B30-1F0F-49EE-AE23-4A4480F6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08D-C3A1-425E-AD57-8294CFA1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1ECD0-C60F-42F3-97B5-99056540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7D32F-EF3B-42DD-8C12-3DAB9EF0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C7CA1-5B35-4AD8-A083-C53C31AB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181AC-A677-420F-B0DB-87CFC0C0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2826F-A070-4FBF-A497-2455D49D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AD1A5-212C-469A-99C3-CD22EFDB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7B6E9-6D6E-4883-B960-C442EB37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0DBBF-2637-418B-BFB9-33230C0E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35877-2FE9-4A95-A2ED-A8F755E7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701C3-1585-4138-91F1-F00FDF94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26DB-28B3-4A7A-923A-511FBE66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D124F-918A-42E3-A22E-F3E78DF8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1D906-3B0F-4AA4-A7EC-E31E81B3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9CEE4-1A04-456D-A02B-3EF1C2AB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77F73-E381-4556-B986-C9E1E7D8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54FC5-F606-49E5-B39D-5E6EEA49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93941-B31A-42D1-BCA5-894D459A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1E525-1B82-4964-A0D8-B3096C77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32552-016C-4BD8-9973-3C861688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F6825-6B70-4CC1-916E-59A45094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46F31-C681-44E5-8B84-E6507CB5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5F81-87BE-48AB-904B-90AE74A8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72FA3-C3EC-4F10-A7D3-A6344DF6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5B110-43DC-4490-BEB7-CF57031B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2339B-0F87-4676-B51F-54556679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53C19-C680-46BD-BA45-58714995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D9C99-19BE-4BEF-813F-B7519920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52297-5CCD-47C6-986C-1F947E5B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F680E-19B2-40EE-94B9-90CE4AB6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3E451-9A85-45D6-906D-C5DC0C27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7551A-018D-434F-8806-9A751454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586A8-0D4D-4F7C-964F-C940909B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7F5-F770-402E-BDF3-EC5A8BF9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3CA9C-BF20-4CB0-9F6B-A463C2D2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E15E8-BE8B-44B5-8C9F-93A47950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3CD84-3E30-4B69-8768-EED70E33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0AFE5-DA2D-47D0-8DE4-E7BC4EA0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8286E-CB69-42A6-A4CB-6CA3FC02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68124-0CAB-4A1A-A26D-E0575783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F2813-842C-4CED-A601-6E36509A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51CA9-71FC-4C52-BCD8-042B7B74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A66C4-9933-4ACF-838D-59EDA882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729CE-6CF6-433A-BBF5-D221F310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034-B754-483F-83F2-BDD0CE63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C35D1-2344-43C8-B328-965CF681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D9E35-71CF-4016-A88A-52F3F8BA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4571E-6D7A-426B-9B48-7AB4BD03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C5228-9FB3-45D1-99C2-49F043E0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3B3E5-83DD-48DF-AB8A-B06D7E5C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C980C-80FC-49BC-9E89-05C4A1E4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EB34B-E133-4D7D-A978-EA809D18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D8841-2FCC-4B1B-9E0D-2FBCF314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8B4BB-DBFF-4747-9766-483EB7C2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D503B-7F79-444A-AE84-C6E9DE9C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6BD9-C817-48BB-B939-768E9114B84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0DA6-A18F-4D92-A0ED-AFC73F2608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176A-D0F1-4F23-A0D3-6F3F683E9A0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627D-5B12-4C41-89B0-3D38CB3664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7e0b33"/>
              </a:gs>
              <a:gs pos="100000">
                <a:srgbClr val="eb829c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CEB8-CC18-4BC7-8A89-0092581A585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486400"/>
            <a:ext cx="5791320" cy="365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374A-0F00-4BF6-9BEE-D10F92A18DE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504B-5386-4E2C-801F-C8790D3446F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AB62-9051-4897-9075-895580BC94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7e0b33"/>
              </a:gs>
              <a:gs pos="100000">
                <a:srgbClr val="eb829c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A434-A00E-4C3A-9CB3-5765E8B76B4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2B43-CC1F-461A-B071-5D080B8E3D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DBFE-408A-4C88-9CE3-42721BA49F2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E86A-0C3D-46B9-B751-185F1CC52D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CCB8-A300-4028-A022-70124969883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9538-460A-4D62-8909-92D8465778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A9E9-E146-478F-8492-689048882763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F5C4-724D-4769-A8AE-7B55E4AF4EE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3656-FD32-4609-8A5C-CED8B46B40F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33F5-0BEA-47E9-ADEA-3771F3CB19F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896C-6BCB-4EBA-9EF8-6AB3C760027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343F-266D-4E30-B7F3-78AE4245EB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1962000" y="438120"/>
            <a:ext cx="6980400" cy="1274760"/>
          </a:xfrm>
          <a:prstGeom prst="rect">
            <a:avLst/>
          </a:prstGeom>
          <a:ln w="0">
            <a:noFill/>
          </a:ln>
        </p:spPr>
      </p:pic>
      <p:pic>
        <p:nvPicPr>
          <p:cNvPr id="434" name="Footer Placeholder 4" descr=""/>
          <p:cNvPicPr/>
          <p:nvPr/>
        </p:nvPicPr>
        <p:blipFill>
          <a:blip r:embed="rId2"/>
          <a:stretch/>
        </p:blipFill>
        <p:spPr>
          <a:xfrm>
            <a:off x="2060640" y="4767120"/>
            <a:ext cx="6540480" cy="1846440"/>
          </a:xfrm>
          <a:prstGeom prst="rect">
            <a:avLst/>
          </a:prstGeom>
          <a:ln w="0">
            <a:noFill/>
          </a:ln>
        </p:spPr>
      </p:pic>
      <p:pic>
        <p:nvPicPr>
          <p:cNvPr id="435" name="Date Placeholder 5" descr=""/>
          <p:cNvPicPr/>
          <p:nvPr/>
        </p:nvPicPr>
        <p:blipFill>
          <a:blip r:embed="rId3"/>
          <a:stretch/>
        </p:blipFill>
        <p:spPr>
          <a:xfrm>
            <a:off x="2097000" y="5754600"/>
            <a:ext cx="5999400" cy="1090800"/>
          </a:xfrm>
          <a:prstGeom prst="rect">
            <a:avLst/>
          </a:prstGeom>
          <a:ln w="0">
            <a:noFill/>
          </a:ln>
        </p:spPr>
      </p:pic>
      <p:sp>
        <p:nvSpPr>
          <p:cNvPr id="436" name="Slide Number Placeholder 6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B794-51D0-4753-84DC-FAFCD2031F4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4" descr="C:\Documents and Settings\hughest\Local Settings\Temporary Internet Files\Content.IE5\RZF77SXO\MPj04387960000[1].jpg"/>
          <p:cNvPicPr/>
          <p:nvPr/>
        </p:nvPicPr>
        <p:blipFill>
          <a:blip r:embed="rId4"/>
          <a:stretch/>
        </p:blipFill>
        <p:spPr>
          <a:xfrm>
            <a:off x="2736720" y="2048040"/>
            <a:ext cx="3926160" cy="3066840"/>
          </a:xfrm>
          <a:prstGeom prst="rect">
            <a:avLst/>
          </a:prstGeom>
          <a:ln w="0">
            <a:noFill/>
          </a:ln>
        </p:spPr>
      </p:pic>
      <p:pic>
        <p:nvPicPr>
          <p:cNvPr id="438" name="07a._Soundzabound_Volume_1_Disc_3_A_Little_Reggae.mp3" descr=""/>
          <p:cNvPicPr/>
          <p:nvPr/>
        </p:nvPicPr>
        <p:blipFill>
          <a:blip r:embed="rId5"/>
          <a:stretch/>
        </p:blipFill>
        <p:spPr>
          <a:xfrm>
            <a:off x="-53352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7693200" cy="11523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wish to simplify the process of using and changing copyrighted items, while working along side copy right laws.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-237960" y="4565520"/>
            <a:ext cx="2457360" cy="2530440"/>
          </a:xfrm>
          <a:prstGeom prst="rect">
            <a:avLst/>
          </a:prstGeom>
          <a:ln w="0">
            <a:noFill/>
          </a:ln>
        </p:spPr>
      </p:pic>
      <p:pic>
        <p:nvPicPr>
          <p:cNvPr id="442" name="Footer Placeholder 5" descr=""/>
          <p:cNvPicPr/>
          <p:nvPr/>
        </p:nvPicPr>
        <p:blipFill>
          <a:blip r:embed="rId3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43" name="Date Placeholder 6" descr=""/>
          <p:cNvPicPr/>
          <p:nvPr/>
        </p:nvPicPr>
        <p:blipFill>
          <a:blip r:embed="rId4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44" name="Slide Number Placeholder 7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4516-2BB0-4A67-AC78-ACA995AB6D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146160" y="298440"/>
            <a:ext cx="8699400" cy="20732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609480" y="256032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support the copyright holder, businesses and the public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support the current copyright law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also make it easier for people to use copyrighted material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7839000" y="5095800"/>
            <a:ext cx="1542960" cy="1695600"/>
          </a:xfrm>
          <a:prstGeom prst="rect">
            <a:avLst/>
          </a:prstGeom>
          <a:ln w="0">
            <a:noFill/>
          </a:ln>
        </p:spPr>
      </p:pic>
      <p:pic>
        <p:nvPicPr>
          <p:cNvPr id="448" name="Footer Placeholder 4" descr=""/>
          <p:cNvPicPr/>
          <p:nvPr/>
        </p:nvPicPr>
        <p:blipFill>
          <a:blip r:embed="rId3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49" name="Date Placeholder 5" descr=""/>
          <p:cNvPicPr/>
          <p:nvPr/>
        </p:nvPicPr>
        <p:blipFill>
          <a:blip r:embed="rId4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50" name="Slide Number Placeholder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0EE8-5937-4672-B6C2-86D34856FF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trips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69280" cy="14079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change copyright laws by using federal government court systems or making legal document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2809800" y="3724200"/>
            <a:ext cx="3067200" cy="3067200"/>
          </a:xfrm>
          <a:prstGeom prst="rect">
            <a:avLst/>
          </a:prstGeom>
          <a:ln w="0">
            <a:noFill/>
          </a:ln>
        </p:spPr>
      </p:pic>
      <p:pic>
        <p:nvPicPr>
          <p:cNvPr id="454" name="Footer Placeholder 4" descr=""/>
          <p:cNvPicPr/>
          <p:nvPr/>
        </p:nvPicPr>
        <p:blipFill>
          <a:blip r:embed="rId3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55" name="Date Placeholder 5" descr=""/>
          <p:cNvPicPr/>
          <p:nvPr/>
        </p:nvPicPr>
        <p:blipFill>
          <a:blip r:embed="rId4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56" name="Slide Number Placeholder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9452-3675-492D-9763-CD5EB814A7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want to continue the balance and practice of the internet and digital technologies continue to empower the public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9" name="Picture 3" descr=""/>
          <p:cNvPicPr/>
          <p:nvPr/>
        </p:nvPicPr>
        <p:blipFill>
          <a:blip r:embed="rId2"/>
          <a:stretch/>
        </p:blipFill>
        <p:spPr>
          <a:xfrm>
            <a:off x="2889360" y="3498840"/>
            <a:ext cx="2987640" cy="2762280"/>
          </a:xfrm>
          <a:prstGeom prst="rect">
            <a:avLst/>
          </a:prstGeom>
          <a:ln w="0">
            <a:noFill/>
          </a:ln>
        </p:spPr>
      </p:pic>
      <p:pic>
        <p:nvPicPr>
          <p:cNvPr id="460" name="Footer Placeholder 4" descr=""/>
          <p:cNvPicPr/>
          <p:nvPr/>
        </p:nvPicPr>
        <p:blipFill>
          <a:blip r:embed="rId3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61" name="Date Placeholder 5" descr=""/>
          <p:cNvPicPr/>
          <p:nvPr/>
        </p:nvPicPr>
        <p:blipFill>
          <a:blip r:embed="rId4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62" name="Slide Number Placeholder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683C-7DBE-4835-8A54-4FFAFDD2A5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For more information visit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eff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creativecommons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freeculture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futureofmusic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defectivebydesign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copyrightalliance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65" name="Footer Placeholder 3" descr=""/>
          <p:cNvPicPr/>
          <p:nvPr/>
        </p:nvPicPr>
        <p:blipFill>
          <a:blip r:embed="rId2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66" name="Date Placeholder 4" descr=""/>
          <p:cNvPicPr/>
          <p:nvPr/>
        </p:nvPicPr>
        <p:blipFill>
          <a:blip r:embed="rId3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67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D019-60E8-47E2-9C01-E6AB611DAB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5:37:42Z</dcterms:created>
  <dc:creator>user</dc:creator>
  <dc:description/>
  <dc:language>en-US</dc:language>
  <cp:lastModifiedBy>user</cp:lastModifiedBy>
  <dcterms:modified xsi:type="dcterms:W3CDTF">2010-02-05T15:41:29Z</dcterms:modified>
  <cp:revision>29</cp:revision>
  <dc:subject/>
  <dc:title>Nonprofit</dc:title>
</cp:coreProperties>
</file>